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D76-D647-4162-9E01-C8D27397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B1E-BD8A-42AD-8587-995C442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BE9-6905-4A08-AD18-D0D091F0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90A-76B0-414F-96AF-B578B86B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62A-503C-4AD9-BD97-1A68C16D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E9E-2E90-4866-9A27-84CDF0B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34F-5329-44CF-9681-E2F40AF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C97-8345-4165-9736-DD7D68E8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7C4-FE57-4C4C-A128-02114895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C14-E484-48B8-89A6-422DE8D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04C-DC01-4C44-A938-46DF82E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1EB-D9AD-4BAA-B01E-DFE930E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5784-F2BA-4F60-A57D-B64B6851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A58-E2F7-46BB-8F8B-6BF4F66799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6E2-E236-4E60-827A-8261325BC3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968-E3E4-4EA8-A089-22450204CE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583-6858-46C8-AE9F-57AA2D80F1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A17-DD36-4DCD-8D0F-BAD9E728F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0C4-8473-480E-9F20-5997099C5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D02-5B98-46C4-A9C8-47562B08C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CFE-3850-459F-8A17-5C8DD7A8E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E85-A946-4202-B0A7-CD24D85F7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70F-8D58-41EF-8656-7CE962711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5A8-2872-4413-8DAE-809350499A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588-3923-444B-920C-73853146D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4:14:51Z</dcterms:created>
  <dc:creator>Hercules</dc:creator>
  <dc:description/>
  <dc:language>en-US</dc:language>
  <cp:lastModifiedBy>Hercules</cp:lastModifiedBy>
  <dcterms:modified xsi:type="dcterms:W3CDTF">2003-07-04T10:40:36Z</dcterms:modified>
  <cp:revision>3</cp:revision>
  <dc:subject/>
  <dc:title>Diapositiva 1</dc:title>
</cp:coreProperties>
</file>